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43D0-34FF-4C39-918F-4640D4606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D3E-30D3-460D-B976-0CDEFE348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8B1-5102-408C-BDDB-19B56CD47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091-A736-4BAF-9847-A9274B4D8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DED-D1C2-4D6A-9EB9-4C6A286E5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71C3-E0E1-4D84-BB05-712F6898E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79E-D81F-4CA6-808A-ADD5B1D01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7491-0A12-45F2-864C-2BC4604E5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DD4A-34D2-4287-8EB5-879AC45F0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7088-11E0-4ABE-BF45-62F36DF97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B89C-1864-41FD-B1A4-48A44B87F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207-D8C6-4FB4-BA8E-A9F2E54D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26C-2D0C-4B67-AC85-BEB494B0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7ED-901C-4016-A8E4-39A9F32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70D-AC1D-4FB4-9D2B-59A970D5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2FE-9AE9-48C1-AE27-7DC374F9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5EB-E0D3-45B3-ACE7-CD3ADA8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204-8D43-4D03-8841-6353731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0AC-ADC0-465E-A9AB-2108C6C5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240-B670-4636-BDC9-D2769943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1F4-FB7B-45EC-8010-6D5A96B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FC4-D82D-4D1D-AEC7-FCA945B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10E-1F8E-440E-AE89-040C0AD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D8E6-5FC7-446F-A1FD-6FC2BEC27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c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Linda Ruas</cp:lastModifiedBy>
  <dcterms:modified xsi:type="dcterms:W3CDTF">2014-12-30T13:28:46Z</dcterms:modified>
  <cp:revision>21</cp:revision>
  <dc:subject/>
  <dc:title>Co-operation or competition?</dc:title>
</cp:coreProperties>
</file>